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AF8-B2AD-454E-8486-0163DEDC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98E-AEDC-46AF-9282-44A56156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9FD-FD1A-4E74-A8BA-6309E96D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3CC-C2E4-4EB1-B884-810B9DAB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82F-06D2-49EE-A5D1-CB625C74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818-1B47-4119-B98A-4A5C0AE6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3CA-FA6A-40CB-A57D-7045D3F3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9DD-6413-40C1-A653-6674DFC1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16B-DC79-4033-BE46-DF5C8886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9B2-7E11-4E6B-8D0A-B641EA0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14F-D0F8-4541-B559-CC5CF587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928-7785-47BB-98CF-9D388544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DD73-7718-430C-9761-2E42F6F23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4:01:36Z</dcterms:created>
  <dc:creator>Patrick J. Mooney</dc:creator>
  <dc:description/>
  <dc:language>en-US</dc:language>
  <cp:lastModifiedBy>Patrick J. Mooney</cp:lastModifiedBy>
  <dcterms:modified xsi:type="dcterms:W3CDTF">2012-03-06T04:14:05Z</dcterms:modified>
  <cp:revision>2</cp:revision>
  <dc:subject/>
  <dc:title>Slide 1</dc:title>
</cp:coreProperties>
</file>